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907588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560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굴림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12440" y="744480"/>
            <a:ext cx="5381640" cy="372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5600" y="9438840"/>
            <a:ext cx="294948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3CF0B-52F1-4C44-98B2-D4D27024EE07}" type="slidenum">
              <a:rPr b="0" lang="ko-KR" sz="12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8AC72-6B0F-4401-9EAF-3B839725E467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712800" y="744480"/>
            <a:ext cx="5381640" cy="372744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5000" cy="447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슬라이드 번호 개체 틀 3"/>
          <p:cNvSpPr/>
          <p:nvPr/>
        </p:nvSpPr>
        <p:spPr>
          <a:xfrm>
            <a:off x="3855960" y="9439200"/>
            <a:ext cx="29494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89079-DB15-4C9A-8F34-E9529778810A}" type="slidenum">
              <a:rPr b="0" lang="ko-KR" sz="12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AE38-5393-452D-9C7E-9CAF372A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11F0-448A-4E36-A546-70343AB8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516-94C2-4417-A406-E7FED5CBE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018B0-9CFB-4045-B40B-6549E4640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4CE1-644F-42A6-A196-C01EF55BE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87B3D-3533-46C0-A7DF-3D0825343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CE6-0D0B-43DD-B63F-FED807CF8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8039-8862-4ACA-97A6-9D891C11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377-2E7D-44B9-A95C-8290C77F7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80DA-2B2C-4386-A75E-DC5819B4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212-77E4-4BB4-AA6B-CABA66E5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ABF1-B6E0-4023-B243-D54C8DABD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05FE2-E197-4DC3-B57C-A295A0C76CC4}" type="slidenum">
              <a:rPr b="0" lang="ko-KR" sz="1200" spc="-1" strike="noStrike">
                <a:solidFill>
                  <a:srgbClr val="898989"/>
                </a:solidFill>
                <a:latin typeface="맑은 고딕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49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50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1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52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층 침대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직사각형 4"/>
          <p:cNvSpPr/>
          <p:nvPr/>
        </p:nvSpPr>
        <p:spPr>
          <a:xfrm>
            <a:off x="219240" y="6465960"/>
            <a:ext cx="41875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※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상기 자재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amp; HARDWARE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는 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K.S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품질 기준 또는 동일한 품질에 합격한 제품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위에 기재된 내용은 지속적인 제품의 연구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,</a:t>
            </a:r>
            <a:r>
              <a:rPr b="1" lang="ko-KR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개발 보완으로 인해 변경될 수 있습니다</a:t>
            </a:r>
            <a:r>
              <a:rPr b="1" lang="en-US" sz="8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59" name="Picture 3" descr="E:\20140916_133412.jpg"/>
          <p:cNvPicPr/>
          <p:nvPr/>
        </p:nvPicPr>
        <p:blipFill>
          <a:blip r:embed="rId3"/>
          <a:srcRect l="17557" t="33157" r="20051" b="19800"/>
          <a:stretch/>
        </p:blipFill>
        <p:spPr>
          <a:xfrm>
            <a:off x="5548320" y="598320"/>
            <a:ext cx="2881440" cy="1571760"/>
          </a:xfrm>
          <a:prstGeom prst="rect">
            <a:avLst/>
          </a:prstGeom>
          <a:ln w="0">
            <a:noFill/>
          </a:ln>
        </p:spPr>
      </p:pic>
      <p:pic>
        <p:nvPicPr>
          <p:cNvPr id="60" name="그림 10" descr=""/>
          <p:cNvPicPr/>
          <p:nvPr/>
        </p:nvPicPr>
        <p:blipFill>
          <a:blip r:embed="rId4"/>
          <a:srcRect l="4714" t="2648" r="5011" b="2976"/>
          <a:stretch/>
        </p:blipFill>
        <p:spPr>
          <a:xfrm>
            <a:off x="4808520" y="2503440"/>
            <a:ext cx="4897440" cy="3830760"/>
          </a:xfrm>
          <a:prstGeom prst="rect">
            <a:avLst/>
          </a:prstGeom>
          <a:ln w="0">
            <a:noFill/>
          </a:ln>
        </p:spPr>
      </p:pic>
      <p:sp>
        <p:nvSpPr>
          <p:cNvPr id="61" name="TextBox 9"/>
          <p:cNvSpPr/>
          <p:nvPr/>
        </p:nvSpPr>
        <p:spPr>
          <a:xfrm>
            <a:off x="219240" y="900000"/>
            <a:ext cx="4187520" cy="55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20(W) X 2059(L) X 928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0(W) X  2000(L) X 18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다리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100mm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buClr>
                <a:srgbClr val="4d4d4d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 상단 모서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전면 모서리의 라운딩 처리와 내추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컬러 적용으로 안정감 있는 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의 플러쉬패널 가공으로 제품의 경량화 구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와 매트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 간 유격을 최소화하여 기숙사 내실에서의 공간활용성을 고려한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은 오염과 훼손에 강한 브라운 컬러 패브릭으로 마감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추가침구가 필요 없는 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드보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표면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전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후면 스마트포일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함침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접착 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자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E0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등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MDF, 39T Flush Panel(4.5T X 30T X 4.5T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EDGE : 0.6T PVC EDGE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감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화운데이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브라운 패브릭 원단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네오텍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쉬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3.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연선매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마이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3.50mm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모래시계 형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목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미송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러스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분함유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3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코너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0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안전성 확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직사각형 29"/>
          <p:cNvSpPr/>
          <p:nvPr/>
        </p:nvSpPr>
        <p:spPr>
          <a:xfrm>
            <a:off x="4406760" y="422280"/>
            <a:ext cx="169920" cy="6259680"/>
          </a:xfrm>
          <a:prstGeom prst="rect">
            <a:avLst/>
          </a:prstGeom>
          <a:solidFill>
            <a:srgbClr val="10253f">
              <a:alpha val="6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3" name="그림 49" descr=""/>
          <p:cNvPicPr/>
          <p:nvPr/>
        </p:nvPicPr>
        <p:blipFill>
          <a:blip r:embed="rId1"/>
          <a:srcRect l="0" t="0" r="0" b="89538"/>
          <a:stretch/>
        </p:blipFill>
        <p:spPr>
          <a:xfrm>
            <a:off x="0" y="0"/>
            <a:ext cx="6135840" cy="422280"/>
          </a:xfrm>
          <a:prstGeom prst="rect">
            <a:avLst/>
          </a:prstGeom>
          <a:ln w="0">
            <a:noFill/>
          </a:ln>
        </p:spPr>
      </p:pic>
      <p:sp>
        <p:nvSpPr>
          <p:cNvPr id="64" name="직사각형 18"/>
          <p:cNvSpPr/>
          <p:nvPr/>
        </p:nvSpPr>
        <p:spPr>
          <a:xfrm>
            <a:off x="1616040" y="127080"/>
            <a:ext cx="911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- </a:t>
            </a:r>
            <a:r>
              <a:rPr b="0" lang="ko-KR" sz="9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제품 사양서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65" name="그림 42" descr=""/>
          <p:cNvPicPr/>
          <p:nvPr/>
        </p:nvPicPr>
        <p:blipFill>
          <a:blip r:embed="rId2">
            <a:lum bright="70000" contrast="-70000"/>
          </a:blip>
          <a:stretch/>
        </p:blipFill>
        <p:spPr>
          <a:xfrm>
            <a:off x="90360" y="158760"/>
            <a:ext cx="1433520" cy="166680"/>
          </a:xfrm>
          <a:prstGeom prst="rect">
            <a:avLst/>
          </a:prstGeom>
          <a:ln w="0">
            <a:noFill/>
          </a:ln>
        </p:spPr>
      </p:pic>
      <p:sp>
        <p:nvSpPr>
          <p:cNvPr id="66" name="직선 연결선 2"/>
          <p:cNvSpPr/>
          <p:nvPr/>
        </p:nvSpPr>
        <p:spPr>
          <a:xfrm>
            <a:off x="-3240" y="422280"/>
            <a:ext cx="990936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7392960" y="3699000"/>
            <a:ext cx="78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나눔스퀘어 Bold"/>
                <a:ea typeface="나눔스퀘어 Bold"/>
              </a:rPr>
              <a:t>MAP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8" name="Text Box 51"/>
          <p:cNvSpPr/>
          <p:nvPr/>
        </p:nvSpPr>
        <p:spPr>
          <a:xfrm>
            <a:off x="1981080" y="5851440"/>
            <a:ext cx="682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d9d9d9"/>
                </a:solidFill>
                <a:latin typeface="나눔스퀘어 Bold"/>
                <a:ea typeface="나눔스퀘어 Bold"/>
              </a:rPr>
              <a:t>PE(H111)</a:t>
            </a:r>
            <a:endParaRPr b="0" lang="en-US" sz="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9" name="직선 연결선 3"/>
          <p:cNvSpPr/>
          <p:nvPr/>
        </p:nvSpPr>
        <p:spPr>
          <a:xfrm>
            <a:off x="219240" y="422280"/>
            <a:ext cx="0" cy="643572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0" name="직사각형 27"/>
          <p:cNvSpPr/>
          <p:nvPr/>
        </p:nvSpPr>
        <p:spPr>
          <a:xfrm>
            <a:off x="203040" y="598320"/>
            <a:ext cx="420372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" rIns="59400" tIns="29520" bIns="295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ALT1 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_ BED &lt;1</a:t>
            </a:r>
            <a:r>
              <a:rPr b="1" lang="ko-KR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인용 메트리스</a:t>
            </a:r>
            <a:r>
              <a:rPr b="1" lang="en-US" sz="1000" spc="-1" strike="noStrike">
                <a:solidFill>
                  <a:srgbClr val="000000"/>
                </a:solidFill>
                <a:latin typeface="나눔스퀘어 Bold"/>
                <a:ea typeface="나눔스퀘어 Bold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직선 연결선 30"/>
          <p:cNvSpPr/>
          <p:nvPr/>
        </p:nvSpPr>
        <p:spPr>
          <a:xfrm>
            <a:off x="219240" y="831960"/>
            <a:ext cx="4187520" cy="0"/>
          </a:xfrm>
          <a:prstGeom prst="line">
            <a:avLst/>
          </a:prstGeom>
          <a:ln w="93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2" name="그림 1" descr=""/>
          <p:cNvPicPr/>
          <p:nvPr/>
        </p:nvPicPr>
        <p:blipFill>
          <a:blip r:embed="rId3"/>
          <a:srcRect l="2403" t="15147" r="1545" b="19120"/>
          <a:stretch/>
        </p:blipFill>
        <p:spPr>
          <a:xfrm>
            <a:off x="4757760" y="2538360"/>
            <a:ext cx="4795920" cy="2562120"/>
          </a:xfrm>
          <a:prstGeom prst="rect">
            <a:avLst/>
          </a:prstGeom>
          <a:ln w="0">
            <a:noFill/>
          </a:ln>
        </p:spPr>
      </p:pic>
      <p:sp>
        <p:nvSpPr>
          <p:cNvPr id="73" name="직사각형 13"/>
          <p:cNvSpPr/>
          <p:nvPr/>
        </p:nvSpPr>
        <p:spPr>
          <a:xfrm>
            <a:off x="219240" y="860400"/>
            <a:ext cx="3725640" cy="45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규  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1000(W) X 2000(L) X 220(H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디자인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밝은 원단에 비해 오염이 덜한 연그레이 원단에 은은한 무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공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봉합 테이프 컬러는 진한 그레이 컬러로 투톤 디자인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[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소  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]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원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선방염 자가드 원단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0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커버스폰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경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314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㎠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±3)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영구합출변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%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    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9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10mm *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내장재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7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파워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폴리에스테르 솜 압축펀칭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mm(1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당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000g)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드텍스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고탄소 포스코산 최고급원료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장강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0~1720N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㎟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탄소합유량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64~0.71%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수축율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이하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280~320℃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의 고주파 열처리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높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0mm(±5), 6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회전 스프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강선두께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2.5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헤리컬 코일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.40mm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테두리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5.0mm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조립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0.90mm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압연강판 클립고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보조스프링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가장자리 탄력강화를 위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6~8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 투입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옆면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밀도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15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㎏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㎡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스폰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기통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4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개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습기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녹방지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-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공법 및 기타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: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인체에 무해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,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무취한 핫멜트 접착공법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/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하면 동일사양 적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(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양면사용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), 2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중 비닐포장 완성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4" name="직사각형 14"/>
          <p:cNvSpPr/>
          <p:nvPr/>
        </p:nvSpPr>
        <p:spPr>
          <a:xfrm>
            <a:off x="219240" y="5584680"/>
            <a:ext cx="41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*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상기 자재 및 하드웨어는 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K.S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품질기준 또는 동일한 품질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  </a:t>
            </a:r>
            <a:r>
              <a:rPr b="1" lang="ko-KR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기준에 합격한 제품</a:t>
            </a:r>
            <a:r>
              <a:rPr b="1" lang="en-US" sz="900" spc="-1" strike="noStrike">
                <a:solidFill>
                  <a:srgbClr val="4d4d4d"/>
                </a:solidFill>
                <a:latin typeface="굴림"/>
                <a:ea typeface="나눔스퀘어 Bold"/>
              </a:rPr>
              <a:t>.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d4d4d"/>
                </a:solidFill>
                <a:latin typeface="한컴 윤고딕 240"/>
                <a:ea typeface="나눔스퀘어 Bold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75" name="Picture 14" descr="D:\2012\아주대\기숙사\시몬스침대\맥시패딕.jpg"/>
          <p:cNvPicPr/>
          <p:nvPr/>
        </p:nvPicPr>
        <p:blipFill>
          <a:blip r:embed="rId4"/>
          <a:stretch/>
        </p:blipFill>
        <p:spPr>
          <a:xfrm>
            <a:off x="7985160" y="396720"/>
            <a:ext cx="1927080" cy="202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5T23:00:37Z</dcterms:created>
  <dc:creator>LIVART</dc:creator>
  <dc:description/>
  <dc:language>en-US</dc:language>
  <cp:lastModifiedBy>ajou</cp:lastModifiedBy>
  <cp:lastPrinted>2018-05-23T01:14:21Z</cp:lastPrinted>
  <dcterms:modified xsi:type="dcterms:W3CDTF">2018-06-08T09:12:13Z</dcterms:modified>
  <cp:revision>254</cp:revision>
  <dc:subject/>
  <dc:title>슬라이드 1</dc:title>
</cp:coreProperties>
</file>