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73145-90BC-4AB6-AFC6-DE018F48901A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BA2-78BC-4AAF-824B-F58B41E6B3A8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4FEE-0217-4644-BC3B-4161F0FCFD9E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5D8E-4813-4CD0-8CA0-AC68D7A79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4FE5F-D8AC-4B9D-BBA1-907A674DE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BD2-CDCA-4F9B-B4A2-3F6F3D13A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A4867-F020-4A39-AE51-6AA58BEC3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6FAE-D16A-4DF0-A9E0-B3B048A87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E915-443A-4874-AEF3-08367409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E866-DDC4-4DA1-B018-9DD5AF717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469C-7F49-4894-BD24-B46EEE970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F54-F58E-4C7C-8622-566778A5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B23C2-82C1-442D-BEBB-231BB8B02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DBBC-4338-4AD2-B842-FEF35054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666-FA0F-4AE8-9392-33B777C93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DF190-06DB-42EE-93A1-1BAB3BC2DD8C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8"/>
          <p:cNvSpPr/>
          <p:nvPr/>
        </p:nvSpPr>
        <p:spPr>
          <a:xfrm>
            <a:off x="169920" y="996840"/>
            <a:ext cx="4114800" cy="552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2074*1110*194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숙사 내실에서 편안한 휴식과 수면을 취할 수 있는 최적의 규격으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구조는 견고한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H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자 구조의 철제프레임으로 내구성이 좋은 형태로 설계되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기   능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포스트 하부에 높이조절 레벨러 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철재사다리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1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바닥프레임에 연결되어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침대하단에 서랍을 넣을시 간섭이 없어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주머니형 난간덮개로 프레임을 가리고 간단한 소품을 보관할 수 있음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매트리스 바닥프레임을 보강하여 더욱 견고해짐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20*20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각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2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 보강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머리판에 실크스크린적용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옵션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원자재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8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LPM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1.2t ABS EDGE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바닥판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5t PB 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양면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P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프레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1.4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발 파이프 및 스틸 파이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 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글라이더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알루미늄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마감캡 </a:t>
            </a:r>
            <a:r>
              <a:rPr b="1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: ABS </a:t>
            </a:r>
            <a:r>
              <a:rPr b="1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플라스틱 사출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컬러칩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5" name="Picture 9" descr=""/>
          <p:cNvPicPr/>
          <p:nvPr/>
        </p:nvPicPr>
        <p:blipFill>
          <a:blip r:embed="rId3"/>
          <a:stretch/>
        </p:blipFill>
        <p:spPr>
          <a:xfrm>
            <a:off x="5345280" y="1774800"/>
            <a:ext cx="3886200" cy="38480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DBE3022-2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0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그림 1" descr=""/>
          <p:cNvPicPr/>
          <p:nvPr/>
        </p:nvPicPr>
        <p:blipFill>
          <a:blip r:embed="rId1"/>
          <a:stretch/>
        </p:blipFill>
        <p:spPr>
          <a:xfrm>
            <a:off x="5880240" y="1225440"/>
            <a:ext cx="2477880" cy="4619880"/>
          </a:xfrm>
          <a:prstGeom prst="rect">
            <a:avLst/>
          </a:prstGeom>
          <a:ln w="0">
            <a:noFill/>
          </a:ln>
        </p:spPr>
      </p:pic>
      <p:pic>
        <p:nvPicPr>
          <p:cNvPr id="62" name="그림 49" descr=""/>
          <p:cNvPicPr/>
          <p:nvPr/>
        </p:nvPicPr>
        <p:blipFill>
          <a:blip r:embed="rId2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3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4" name="그림 42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5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6" name="직사각형 29"/>
          <p:cNvSpPr/>
          <p:nvPr/>
        </p:nvSpPr>
        <p:spPr>
          <a:xfrm>
            <a:off x="0" y="422280"/>
            <a:ext cx="4406760" cy="643572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169920" y="996840"/>
            <a:ext cx="4533840" cy="31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규   격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- 435*316*1135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디자인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1.5</a:t>
            </a:r>
            <a:r>
              <a:rPr b="0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층 침대용 철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[</a:t>
            </a:r>
            <a:r>
              <a:rPr b="1" lang="ko-KR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소   재</a:t>
            </a:r>
            <a:r>
              <a:rPr b="1" lang="en-US" sz="10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]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buClr>
                <a:srgbClr val="d9d9d9"/>
              </a:buClr>
              <a:buFont typeface="나눔스퀘어 Bol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BODY : 15x35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인발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20x20x1.4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사각파이프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             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3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/ 1.6t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스틸절곡 </a:t>
            </a:r>
            <a:r>
              <a:rPr b="1" lang="en-US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+ </a:t>
            </a:r>
            <a:r>
              <a:rPr b="1" lang="ko-KR" sz="9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지정 분체도장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직선 연결선 32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사각형 33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ALT2 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_ LADDER &lt;DIL3004B-1</a:t>
            </a:r>
            <a:r>
              <a:rPr b="1" lang="ko-KR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인용 사다리</a:t>
            </a:r>
            <a:r>
              <a:rPr b="1" lang="en-US" sz="10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선 연결선 34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사각형 35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※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상기 자재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&amp; HARDWARE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는 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K.S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,</a:t>
            </a:r>
            <a:r>
              <a:rPr b="0" lang="ko-KR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1:16Z</dcterms:modified>
  <cp:revision>254</cp:revision>
  <dc:subject/>
  <dc:title>슬라이드 1</dc:title>
</cp:coreProperties>
</file>